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82E-FCE4-4B6E-A7C3-F3BCCFA1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3CE-8FEA-4F8C-86D9-0B9A894D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E63-E407-443B-91DE-F405CD41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ABD-3064-4699-82F2-7D27B792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35C-7DD6-4464-B38E-AB6C3C7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CAC-1C45-402D-946D-0013190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64E-C56A-48AD-991A-9D0AF3D4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286-FC40-4295-B800-4F5A6BD1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282-3A69-4864-8A8B-6C9E2779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631-BE1E-4CFF-89A9-4DB4AC0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1C7-3304-48D7-A335-988167B3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6BA-BF22-4FD2-970F-4CBD58C6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DDCE-7A5E-4192-986C-CE67831CE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133720" y="1409760"/>
            <a:ext cx="4771800" cy="3314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549440" y="381600"/>
            <a:ext cx="66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a AE operation area / Fentress NALF Class E Air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126160" y="522792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a AE operations will be conducted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 nm of the center of the run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549440" y="381600"/>
            <a:ext cx="66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a AE operation area / Fentress NALF Class E Air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400640" cy="3476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2323440" y="5456520"/>
            <a:ext cx="49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a AE operations will be conducted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rsely populated areas and far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2:18:27Z</dcterms:created>
  <dc:creator>Rick Ryan</dc:creator>
  <dc:description/>
  <dc:language>en-US</dc:language>
  <cp:lastModifiedBy>PorterfP</cp:lastModifiedBy>
  <dcterms:modified xsi:type="dcterms:W3CDTF">2008-08-28T15:52:09Z</dcterms:modified>
  <cp:revision>258</cp:revision>
  <dc:subject/>
  <dc:title>Slide 1</dc:title>
</cp:coreProperties>
</file>